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1477-38B6-452E-9C3B-E5166596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8ED2-41A3-4ED3-B438-BFA65711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7C6-BD0D-400E-9052-3E8D13A3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A8D7-5AE3-41ED-B1A8-8F657101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5375-FDE7-4437-8486-71B1ED88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E6DE-5815-4B69-AF7D-927925EE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1D78-4B88-4A07-BD78-91332F8A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8F4A-54DD-4254-96D8-7016D376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E4C53-05F9-42AE-AB84-D13EF376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1B7B-A694-41AA-B6DD-30AA3F58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69E7-A1CF-4B45-AF54-003D5E6A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BFA-3AF8-49CA-B32B-9699D6F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2DC6-8F2F-49FC-A751-E5CA8715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B7BD-6260-46AF-B3E8-AD3FFB31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C987-9999-49A7-9950-B4A70FBA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F37A-C328-46E6-9C28-C9A03D1D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663A-94F9-441A-9262-EFBD737D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07C8-6134-4260-8A60-A42061B3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6558-AA5F-452D-A03A-F602A423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197A0-4832-477D-8D27-293837F3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29E63-387D-45A1-846F-87870398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D404D-3A8F-4AFB-B40A-53C96A5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BFF-E073-4406-BE33-3313BF31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46A6F-C66B-47BB-852E-88A5E2D4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2F362-ED0E-4CE1-AB31-037CFC6D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13192-5307-4A74-843A-F9EC8889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E1C73-2AD9-4923-A0B7-F6819803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44C8F-AF8C-4C6C-8CA8-F0FDA30C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2613D-3BCC-4253-BCA9-6363AEA0E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2ACCA-415E-4A8B-B4C5-8237C914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D039F-FEE1-43DC-B7D6-5DF6D606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02E99-8D10-4AE0-9A6A-94C26D3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43ADD-0825-484E-870D-76B26590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F79-C728-48E2-B9FA-E35E66C4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8520-339A-4C52-AE1D-16017586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D6469-8223-4FB4-856F-F8A16242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94E24-2558-42F3-A8BD-F66E290A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80A8D-9275-4478-9994-AFC8AAC1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DCA2-5A1B-4642-A7D6-FE3B4A95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CE731-72C6-422D-9BB2-D1BE8EF5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A4548-D009-4D68-AB70-2D26BD87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AF8D0-A0E5-4BE2-B374-E240C40D6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D90D0-A486-404F-BAF3-753C02EA2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32E-97C1-45EC-9F80-051E3560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A69-9372-42C1-B2DE-F8C1FCCE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1E4-3F37-4DC7-9D5B-E7CB7836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7ADC-C09B-4B35-A34C-59246938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F9CA-2A7A-43E0-9DD1-86AD893C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C39B-4CA2-40DC-8A71-00B5888D7F1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4774-1F0F-4386-BBCB-4DECB98BD1A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4B0D-2D6E-444D-B62E-446A650E544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749C-662C-453E-9A6B-C5C20E7450C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5/37/" TargetMode="Externa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6/38/" TargetMode="Externa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–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to “sell” yourself to be noti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llow application guidelines exac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applicant’s responsibility to make sure the application has been filed in a timely and complete fashion, with the appropriate Intermediate Uni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– Applica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ications available after Oc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by November 1, gathering your materials, information, selection of audition pieces (PGSA only), writing and rewriting essay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P, ask appropriate staff for letters of recommendation – provide them with materials and information prepared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missions of completed applications vary by school, plan to be done by J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applications to Guidance Counselors at least 2 days prior to “postmark” deadline,  Guidance will then mail them ou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PGS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PGSGE PGSHC PGSIST PGSIS PGSS PG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unds for Disqual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eligible (see each schools applic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teness of appl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ilure to send application to correct off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lete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all parts must be in at same time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sification of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 abiding by application guide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add unnecessary or neglect required i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dditi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 on each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loadable application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ful Hints for applic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quently Asked Questions (FAQ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Calend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“At a Glanc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uce Guenther, Gifted Education Teac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guenther@berwicksd.org  759-6400 x314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rs. Heather Melito, Guidance Counsel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melito@berwicksd.org   759-6400 x 310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t updated 23 October 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Pennsylvania Governor’s Schools of Excell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2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t. 2008.  The Pennsylvania Governor’s Schools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ce.  23 Oct. 2008 &lt; http://www.pgse.org 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1802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. Bruce Guen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ed Education Tea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rwick Area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nnsylvania Governor’s Schools of Excellence (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E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cademically or artistically talented students, including the gif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but, not exclusive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week, intensive, residential, program held during the sum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ld on different college campuses, based on career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ition, room &amp; board transportation, incidentals paid by fami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- FY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 application a two year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pply to no more than TWO    Pa. Governor’s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lumni from BH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iny Deat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sh Gallagh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ristin Kemmerer - 2008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ivia DiPasquale - 2007 PGS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ista Johnson - 2007 PG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m Gerlach – 2006 PG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ily Odgrin – 2006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ie Brown – 2005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ane Swank - 2005 PGSA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G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– Global Entrepreneurshi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high University, Bethlehem, 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: Business, finance, e-commerce (with recognition of globalization of econom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 or Social Studies teacher,      English teacher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H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Health C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human Health Care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Science teacher, one other teacher,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ject in Health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 (All applicants) Paper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Statement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-curricular resume (1-2 p. resu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ief Essay (2 p. essay based on “school’s” promp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ters of Recommendation (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, Report Card, Attendance, Stndrd.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I – (semifinalists, selected from L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Auditions or Inter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ies to all “schools” except the AR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A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PGSE, School of the Art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The PGS of the Arts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require teacher recommend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r a resume, nor a Chief Ess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REQUIRE an artistic work s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tistic recording or portfo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s “hand” delivery of application to CSI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9:28:33Z</dcterms:created>
  <dc:creator>Guenther Family</dc:creator>
  <dc:description/>
  <dc:language>en-US</dc:language>
  <cp:lastModifiedBy>End User</cp:lastModifiedBy>
  <dcterms:modified xsi:type="dcterms:W3CDTF">2011-01-07T15:25:34Z</dcterms:modified>
  <cp:revision>36</cp:revision>
  <dc:subject/>
  <dc:title>Pennsylvania Governor’s Schools of Excellence </dc:title>
</cp:coreProperties>
</file>